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F84-9BE8-4819-A371-0FAF66F3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6448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3753000"/>
            <a:ext cx="776448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582-E003-412E-BBB7-77CFF70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836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AF0-1608-4F9F-B9CE-1EFC9439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4760" y="176796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240" y="176796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375300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4760" y="375300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240" y="375300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002-FACD-4AD2-8D37-0A1A73B2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7960"/>
            <a:ext cx="77644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A28-9504-4146-A015-B695DB55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644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E50-B070-4CB9-AEBE-3E12D178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58D-6DB6-40BD-A625-A2077882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264-F22C-404F-B1ED-52276B3F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5280" y="301320"/>
            <a:ext cx="61452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2FD-FCE1-43EF-BA22-BE979B8F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4F1-4C71-4B8D-A1AC-50D76B6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836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DCF-4CFB-4604-86AA-56EE734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3753000"/>
            <a:ext cx="776448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A6D-2CD4-4689-B6B8-76A8DE78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640" y="1767960"/>
            <a:ext cx="77644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63280" y="6094080"/>
            <a:ext cx="23367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3720" y="670716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15000" y="670716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6C768-70C5-4CD1-9568-F198385C47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1840" y="1143000"/>
            <a:ext cx="61563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alt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45600"/>
            <a:ext cx="77295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F. Soviet Security Concern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09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nted to keep Germany w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elieved Communism was the best economic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ould replace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ould encourage in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0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345600"/>
            <a:ext cx="86439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H. American Economic Issu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09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lieved the Depression caused W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ations go to war to get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romoted worldwide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emocracy and free enterprise also promo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0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78120" y="1049040"/>
            <a:ext cx="6146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old War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63880" y="2057400"/>
            <a:ext cx="77659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hostility, short of direct military confrontation, that developed between the two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Incompatible System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36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Capitalism/privat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ocracy/fre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onaggressio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59440" y="1768320"/>
            <a:ext cx="3789360" cy="37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Communism/state contro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Dictatorship/one  leader; no political op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90964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I. Truman Takes Control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893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amed WWII on appeasement w/ Hitler; not happening w/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s w/Molotov and demands free elections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lations w/USS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s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59440" y="1768320"/>
            <a:ext cx="3789360" cy="3802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74320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273800" y="4343400"/>
            <a:ext cx="2556000" cy="32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345960"/>
            <a:ext cx="81820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J. Potsdam Conferenc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3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ccurred in July of 19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uman continues to promote democracy and industry in Germany for economic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lin insists on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ch count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s not tru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59440" y="1768320"/>
            <a:ext cx="3789360" cy="3802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43600" y="182880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4920" y="345960"/>
            <a:ext cx="61470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Satellite Nation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39840" y="1828440"/>
            <a:ext cx="37893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ose countries that were controlled by Stalin;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59440" y="1768320"/>
            <a:ext cx="3789360" cy="3802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097600" y="1828800"/>
            <a:ext cx="473220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Iron Curtai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3880" y="2285640"/>
            <a:ext cx="77659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ined by Churchill in 1946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parated the Soviet Union and the satellite nations from the western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8001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5280" y="345600"/>
            <a:ext cx="615168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Lesson Objectiv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how tensions began to rise after W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what Truman did to try and keep Germany’s economy from f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create a response about how either an American or Soviet felt about the issues with Po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A. Yalta Conferenc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iscussed plans for the future and what to do with Germany and its terr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Some of what was decided at Yalta played a role in causing the Cold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34920" y="345960"/>
            <a:ext cx="61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B. Poland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re were two governments in Po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Non-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mpromise between Stalin and FDR and Churc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lish government set up by Sovi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embers of pre-war government included, and **free elections h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34920" y="307800"/>
            <a:ext cx="6154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. Declaration of Liberated Europ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37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 people have a right to choose the type of government the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lies promoted democratic institutions via fre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0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1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D. Dividing Germany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096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our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erlin also separated into four s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Same countries as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9220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4920" y="390600"/>
            <a:ext cx="61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D. Dividing Germany, cont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384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talin wanted reparations from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FDR agreed but wanted to base the amount on Germany's ability to p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ssues were not resolved and continued to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11040"/>
            <a:ext cx="77724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E. Tensions between U.S. and Soviet Union grow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09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14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4520" indent="-608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, due to Stalin refusing fre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4520" indent="-608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was the turning point for American-Soviet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Much more hos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2:53:57Z</dcterms:created>
  <dc:creator>Courtney Huro</dc:creator>
  <dc:description>Presentation Layout Template</dc:description>
  <dc:language>en-US</dc:language>
  <cp:lastModifiedBy>School District U46</cp:lastModifiedBy>
  <dcterms:modified xsi:type="dcterms:W3CDTF">2011-02-17T13:36:51Z</dcterms:modified>
  <cp:revision>4</cp:revision>
  <dc:subject/>
  <dc:title>Red Noise Shapes</dc:title>
</cp:coreProperties>
</file>